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3E6E9-DD72-4C67-A847-BA143EAB4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DBD76-471C-48B4-8509-64116BE81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5C93A-D3AA-4E8A-BCB2-7DC2269DE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C028F-5F1B-4B49-AC75-36B82B8F6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DD4E37-B12B-4D2D-8D5B-63B733D8C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9BFB17-263A-4718-B191-228377F6E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5875C8-303A-4AB0-93D3-5F9781FD9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9BDAB4-08E8-4F87-80CF-852E6B0C4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9A3BBD-F591-4DDC-B496-BB38DA2A9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488BCD-DD41-473A-9E30-5CB01BE0B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4B6806-A377-49B4-A291-12E511F63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2051F-B703-4341-8B9A-55BF26D71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DB44D1-696F-4E79-8716-70969BED8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B9C52A-83CE-4EA8-8790-BBB29729B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FEE2C8-3D3F-45D6-9331-CD3C71640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A8A630-3137-403E-BE04-4F62A43F7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C1D616-68F4-49C3-BD3A-974920404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206CB5-0842-4047-9EE0-895D5E507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AA2A90-64E4-440B-9522-27F8AE431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127541-9833-493C-A3F9-6822C240C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10ACC2-764B-452C-BC71-8292BF784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40BE7B-F28C-4DB3-B224-5DAE4F479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E7F6F-2B03-446D-AED2-22D4DD2CC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ED36D6-61EE-458C-911D-7D4174646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9C7306-EA95-4AF0-B6E2-0E89E1DE9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152F94-36AB-40F6-ACF5-76C212573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C67C91-BE0B-4E28-B088-ED400F2D7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EB7DEC-7732-4F2E-BA13-F8EB13CE4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C739BE-E9A6-4C36-8E96-F3510B59F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02CA09-4EDC-471B-8C0E-0B458632E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D96454-82D2-436A-A68B-E920925EA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6A23D3-7D63-4493-84AF-EBADE36B2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2DA66A-CE3D-4BEB-8192-81711BC62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872E8-3C89-4112-9E95-2D403436E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EBE98C-D771-4942-8E4B-1ADED8BB1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FF9EF3-2494-44D6-A978-42F21B0D8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190CB4-CDF6-4C1B-809E-35FE003A8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4799BD-D808-4F5C-AF96-2F031A9CB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2D7712-541B-44C1-91FD-459FB80A2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91222E-4B6B-4C3B-A627-98AA9EC1F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AC38EF-006F-4478-A483-C6D147275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6AD726-3207-406B-8CA2-BA4C05989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3421BA-17C8-4E77-8EC7-6E04CF4E0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012499-B49A-41FB-8369-433799C7E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544A5-310A-4556-A733-A21996B77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210651-289F-4EA3-AADC-D6CFAD2B9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F89FD6-BBC3-4E2E-93F9-F0A8EFC8D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FC206C-493E-4034-BE11-5AABF76E1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004800-C068-40DB-9D0D-8B330AC67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1E3B86-8E84-42BA-9D18-2F65F4425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90A2AF-E93C-4B31-A7D4-14D8C2761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22D2DB-CDEC-482D-B48C-53525AA9B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9E675E-CFDD-4B3E-9103-2D4BAF490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E84BEE-DBA6-40E1-A3EB-913945E43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394245-7E77-44CE-889A-B696AD02B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C26B8-81CF-45F6-A410-1A6D41253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A1CFD7-9224-42C1-AF27-026B56F63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119FE2-E63B-458A-B5AC-82526D332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CADE21-CF7D-41D1-A3BD-6799B14D9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12BE2F-3E6A-45A0-A640-5201E19FE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864E2B-DA1C-42B5-80F0-09C17E3CB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61D0A4-8ECF-44DA-9241-051CBA990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FFF9E7-1BD9-4A62-B8A0-EFCEBDE63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886FA5-114A-4609-B372-DB5B3F81F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CF1D4B-2566-44A7-A422-F74EF54DE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47BD42-5B7C-4FBB-8DAD-47B8039D8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90956-264F-4E01-B253-E2845C407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DD19A6-0ECB-4E26-B69A-3621CD51C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BE0583-B4D9-4D94-807F-D27EA5B26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E29CA6-C1B9-4831-BEB9-CDEEF6017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82C26-E4E5-4C87-9247-C381B67F9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5412B-4899-4EF9-B2CF-55ADC6201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A5A15-7C97-43EE-AEF3-A949F6DFC91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6264E-FF4F-4035-BBDE-D60D28A0C5E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aa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aa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23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dt" idx="7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ftr" idx="8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sldNum" idx="9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694DB-74BE-443B-A80F-F4463E3849E3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8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99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3" name="PlaceHolder 1"/>
          <p:cNvSpPr>
            <a:spLocks noGrp="1"/>
          </p:cNvSpPr>
          <p:nvPr>
            <p:ph type="dt" idx="10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ftr" idx="11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 type="sldNum" idx="12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13B8A-E078-429E-A957-9327E5E99C0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e5d31"/>
            </a:gs>
            <a:gs pos="100000">
              <a:srgbClr val="46542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274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75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261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261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261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261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261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261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261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261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261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261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261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261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261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88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89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f5d31"/>
                  </a:gs>
                  <a:gs pos="100000">
                    <a:srgbClr val="526133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4a572e"/>
                  </a:gs>
                  <a:gs pos="50000">
                    <a:srgbClr val="526133"/>
                  </a:gs>
                  <a:gs pos="100000">
                    <a:srgbClr val="4a572e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dt" idx="13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40326-CD9B-480F-9BFC-53B707C05F8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cc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cc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e5d31"/>
            </a:gs>
            <a:gs pos="100000">
              <a:srgbClr val="46542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5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466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467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261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261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261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261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261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261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261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261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261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261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261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261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261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481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f5d31"/>
                  </a:gs>
                  <a:gs pos="100000">
                    <a:srgbClr val="526133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4a572e"/>
                  </a:gs>
                  <a:gs pos="50000">
                    <a:srgbClr val="526133"/>
                  </a:gs>
                  <a:gs pos="100000">
                    <a:srgbClr val="4a572e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dt" idx="16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99B16-F6EB-4088-8961-219E42195166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aa00"/>
                </a:solidFill>
                <a:latin typeface="Arial"/>
              </a:rPr>
              <a:t>Settling Utah</a:t>
            </a:r>
            <a:endParaRPr b="0" lang="en-US" sz="5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Four Immigration Era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847 Covered wagons pulled by ox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856-1860 Handcarts pulled by peop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861-1869 Down and back wagon trai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869 Steam locomotiv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Handcarts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st made it to Utah saf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ly one that had serious problems was the Martin and Willie compani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ft l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80 of 980 people died of starv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Down and Back Wagons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tah Boys” went to Iowa to pick up immigra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s exciting escape for the young m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ften became suitors to the immigrating wome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4" name="" descr=""/>
          <p:cNvPicPr/>
          <p:nvPr/>
        </p:nvPicPr>
        <p:blipFill>
          <a:blip r:embed="rId1"/>
          <a:stretch/>
        </p:blipFill>
        <p:spPr>
          <a:xfrm>
            <a:off x="5076720" y="2114640"/>
            <a:ext cx="3181320" cy="34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Features of Utah Settlements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reets in grid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de streets with irrigation ditch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rge city blocks, 4 acres+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center of town was for public things, such as churches and par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armers on the outskir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Utah Governmen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hurch and Civil leaders were the same peop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church often provide for the welfare of the poor, and for immigran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ad them work on public projects for their welfar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e5d31"/>
            </a:gs>
            <a:gs pos="100000">
              <a:srgbClr val="46542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Spreading across the Wes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righam Young called people to settle towns throughout the wes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me did it by themselv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hosen because of skil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ventually the railroad came making it easier to spread across Utah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e5d31"/>
            </a:gs>
            <a:gs pos="100000">
              <a:srgbClr val="46542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Railroads in Utah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 longer isolat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rinne, Utah brought a lot of other faiths to Utah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ining became possible with the railroad now in Utah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18:07:57Z</dcterms:created>
  <dc:creator>student</dc:creator>
  <dc:description/>
  <dc:language>en-US</dc:language>
  <cp:lastModifiedBy>student</cp:lastModifiedBy>
  <dcterms:modified xsi:type="dcterms:W3CDTF">2009-03-30T21:21:03Z</dcterms:modified>
  <cp:revision>5</cp:revision>
  <dc:subject/>
  <dc:title>Settling Utah</dc:title>
</cp:coreProperties>
</file>